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A79-5CF5-4EB1-90CB-ECAB942F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7D1-7503-4FFA-BFFD-DED8CE05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84D-A670-4E97-90EA-C352E632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251-CF3A-46D8-89B1-CAD7D7B8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5A2-BC64-4BE5-8723-EEC3A54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5F9-D91B-4D51-998A-F40E1AF0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E42-F679-47C0-AE81-FE5643D1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238-9E55-4118-8D93-0E252BAC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543-D8FD-40CA-BD38-D4453FAC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4D1-C2AA-4ACB-ACD0-CC08939B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5BF-B570-4415-A1FE-5B3A4E4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83F-03E4-4014-9359-DBC09070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B2EC-A85E-4196-9AF4-562E12EFA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adeloupe tres beau!  Je suis resté à la station dans l’Abaka Bay Hôtel.  Je suis arrivé à la suite de plage!!!!!  Je suis monté jeep safari dans le republique dominicaine.  Tres superbe!  Je n’ai jamais à la plage.  J’ai mangé coq au vin dans aux côte jard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iti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71600" y="5943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GUADELO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040" y="37339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Courtn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doloupe tres beau!  Je s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 la station dans l’Abaka bay hôtel.  Je suis arrivé à la suite de plage.  Je suis allé nager avec les dauphins, c’était incroyable.  Je n’ai pas visité le jardin botanique.  J’ai mange poulet a  chez la l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iti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6019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PUBLIQUE DOMINIC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400" y="3580920"/>
            <a:ext cx="68580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pap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deloupe tres beau!  Je suis r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à la la station dans l’Abaka bay Hôtel.  Je suis arrivé à la suite de plage.  Je suis allé jouer au golf.  Je n’ai pas visité tour eiffel.  J’ai  mange des pates a la varan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iti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876920" cy="32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59436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Le Golf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K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deloupe tres beau!  Je suis r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à la station dans l’Abaka Bay Hôtel  Je suis arrivé à la suite de plage.  Je suis allé à un musée.  Il était tres coloré  Je n’ai pas bronzer à la plage.  Je n’ai pas mangé ce so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Front door of St. Jean Perse Museum. Pointe-à-Pitre, Guadeloupe."/>
          <p:cNvPicPr/>
          <p:nvPr/>
        </p:nvPicPr>
        <p:blipFill>
          <a:blip r:embed="rId1"/>
          <a:stretch/>
        </p:blipFill>
        <p:spPr>
          <a:xfrm>
            <a:off x="1219320" y="152280"/>
            <a:ext cx="648648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09680" y="5791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US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ÉE DANS GUADEL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23920" y="1295280"/>
            <a:ext cx="3962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Mat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deloupe tres beau!  Je suis r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à la station dans l’Abaka Bay Hôtel  Je suis arrivé a la suite de plage.  J’ai resté à la hôtel pour le dernére journée.  Je n’ai pas aller fair du kayak.  Je suis mangé un grand diner à la salade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iti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49604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-34290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286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I FIG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42:22Z</dcterms:created>
  <dc:creator>rabidouspe</dc:creator>
  <dc:description/>
  <dc:language>en-US</dc:language>
  <cp:lastModifiedBy>rabidouspe</cp:lastModifiedBy>
  <dcterms:modified xsi:type="dcterms:W3CDTF">2012-02-03T13:35:24Z</dcterms:modified>
  <cp:revision>8</cp:revision>
  <dc:subject/>
  <dc:title>Slide 1</dc:title>
</cp:coreProperties>
</file>